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71E-06C7-481A-ADC0-0923EDC9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01A-FB0B-4D9B-9824-89DED9D1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65F-88EF-47A6-B2C6-9012B597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814-06B9-40A9-A9AF-FD8CF1DF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4447-B094-4BFB-B9B2-4461FDC0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EB9A-B7CB-4054-8C1D-1C085689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F6B5-D815-4CBF-9281-C4BF5E8F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DA11-A759-40FA-AE32-7A0A8CCD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CF93-D340-4EC9-914E-FECED10C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114A-A893-4FA7-9C94-845CB01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591B-BD7B-4456-82BB-D25F241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DF2-9877-4F27-B8EC-F279BF01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0B06-6403-48BD-BEA3-59D6615F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9644-E6B0-48B4-B879-52C3AAF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59AF-8DD5-4C12-9544-5E041F9C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0010-7E86-4FFE-BEC0-98FC5CF2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63C6-69DA-4D77-BEDE-06AB5A4B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B0CB-8743-4019-9FA7-FEA81D9A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1D55-5AE4-4ED8-A599-4CBDCBF7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ABEE-4068-4384-856F-19599567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2135-636A-418A-B91A-B04439A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3AC4-3004-4BA6-A6A7-9686B498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2D5-35D1-4D21-8474-BE3F67D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164D-70EC-4FAE-A36B-D4A25A7F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9420-391B-4DE6-94E5-E8FC001C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84AA-63EF-488F-B8DB-A3E24C7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E6E6-E692-4B51-96F3-484F877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C057-D07E-4F20-B752-DE4FC31F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1FD5-9A44-4EF6-8051-AD061FB0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58F0-4B66-4910-8947-22ABE30D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957-9DD2-43F5-A583-D7242D3D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F87-2541-4238-A565-E918CBB8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BB1-6835-49B1-A81B-DD84507D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E10-E079-4172-A175-45224FCA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54D-C5AA-49DE-A7EC-3E38830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D01-9D70-43DD-B072-E02055C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1D08F63-18D5-4BA4-99BE-0EF42684125C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4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4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2200" spc="-1" strike="noStrike">
                <a:solidFill>
                  <a:srgbClr val="000000"/>
                </a:solidFill>
                <a:latin typeface="Calisto MT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2" marL="13716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3" marL="18288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2860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6579D8-C1B7-40DE-A150-C6EAC84F876F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tandardRule.png"/>
          <p:cNvPicPr/>
          <p:nvPr/>
        </p:nvPicPr>
        <p:blipFill>
          <a:blip r:embed="rId3"/>
          <a:stretch/>
        </p:blipFill>
        <p:spPr>
          <a:xfrm>
            <a:off x="2705040" y="15238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0F1368-763F-4234-B418-B89948DEFD7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standardRule.png"/>
          <p:cNvPicPr/>
          <p:nvPr/>
        </p:nvPicPr>
        <p:blipFill>
          <a:blip r:embed="rId3"/>
          <a:stretch/>
        </p:blipFill>
        <p:spPr>
          <a:xfrm>
            <a:off x="2705040" y="33526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CPSC 203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Introduction to Computer Scienc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44197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TA: Shreya 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Email: srawal@ucalgary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CT hours: Thursday 3:00 pm–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Schedu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-3: Spreadshee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1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Feb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4-6: Databas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2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7-9: Programming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3: 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0-12: Desig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4: 1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866840" y="5225400"/>
            <a:ext cx="96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(6.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Assignments 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1: Spreadsheet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January 2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February 2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2: Databases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erm Project (9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ral presentation: April 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to 1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Wiki part due: April 1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Spreadsheets!!!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ponents of a spreadsheet window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Ribb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in Toolb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ontextual Menu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ffice Butt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42" name="Content Placeholder 4" descr="CSPC203_Template_Spreadsheet_Image_1.png"/>
          <p:cNvPicPr/>
          <p:nvPr/>
        </p:nvPicPr>
        <p:blipFill>
          <a:blip r:embed="rId1"/>
          <a:srcRect l="-5557" t="0" r="-5557" b="0"/>
          <a:stretch/>
        </p:blipFill>
        <p:spPr>
          <a:xfrm>
            <a:off x="0" y="274680"/>
            <a:ext cx="9143640" cy="61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Today’s Tutorial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preadsheets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yping in some basic dat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Using the AutoFill featur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tting-up appropriate field formats, such as currency, numbers, text, etc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alculating basic statistic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Important things on wiki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abs Templat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A Examp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PSC203_Template_Peopl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avelogue.thmx</Template>
  <TotalTime>255</TotalTime>
  <Application>LibreOffice/7.4.7.2$Linux_X86_64 LibreOffice_project/40$Build-2</Application>
  <AppVersion>15.0000</AppVersion>
  <Words>235</Words>
  <Paragraphs>4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11:54Z</dcterms:created>
  <dc:creator>Shreya Rawal</dc:creator>
  <dc:description/>
  <dc:language>en-US</dc:language>
  <cp:lastModifiedBy>Shreya Rawal</cp:lastModifiedBy>
  <dcterms:modified xsi:type="dcterms:W3CDTF">2009-01-19T07:44:06Z</dcterms:modified>
  <cp:revision>7</cp:revision>
  <dc:subject/>
  <dc:title>CPSC 203 Introduction to Computer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